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7E4-2C1D-47A6-9DC6-5B11BCEC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2F3-FBD4-4C58-9851-ECDFB65A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306-DE4F-4CE9-B416-349BFC53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D94-2679-4E80-8303-F06F8873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7F99-9943-4B9A-8711-77854E3E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F8F-561B-4C3D-BA3B-6AED360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D6B0-6523-4FEE-AB70-D601FA6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CFF-8328-4109-A5A2-6958C40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BE9-052D-45F2-9553-E919A99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F65-C179-408C-8ECF-5B796D33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5EE-47E4-4314-AA72-C7CC6D7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34D-6443-48FF-9956-C1E5F05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78A-49AA-4CF2-9C9E-53800F2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FF1-43E8-4090-8282-55245B5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598-717D-4099-BF74-F8449A48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2EC4-FDFC-428F-B25D-7F00572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0FBF-BE72-4593-95B7-FE906514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817-ECFD-4F80-942B-76654D7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49B-AA55-4F6D-A641-2CD27DD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19B-75AC-4C1F-9CD8-8E5451D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99E-0059-4386-8F62-142F8CA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DFC-58D6-474D-BE65-42B4A0A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E76-7C2B-4D2C-AE24-6B09757B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B9B-2834-4621-B4CB-34A54BD2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A79-0E6C-410F-938A-551093BE6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CEA-5B8C-4FDD-930F-6DF4CDA7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McREL Leadership</a:t>
            </a:r>
            <a:br>
              <a:rPr sz="5400"/>
            </a:b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nitiative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Rockland Administrato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LF Ret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30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ok Lo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s and Belie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of 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urriculum, Instruction, Assessment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in 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t 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65640" y="45720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430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ship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“Top 7”</a:t>
            </a:r>
            <a:br>
              <a:rPr sz="20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(ranked order)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ly Correlated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of 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s/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Second-Order Change</a:t>
            </a:r>
            <a:br>
              <a:rPr sz="3200"/>
            </a:b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Negatively Correlated Responsibilities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520" y="2057040"/>
            <a:ext cx="44956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in North Rockla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dentifiable characteristics for building- and District-level sta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for NRCSD to become a high-reliability organization, we need to define and reach consensus on these characteristics, and we must put in place procedures to allow for second-order change to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in North Rockla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minstrator Leadership Caucus will work to assist all building-level leaders to promote change and reliability in their assignments, and will also work with District-level leaders to identify their roles to promote second-order change in our Distri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ome Defini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: First- or Second-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takeholders perceive change 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 extension of the past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break from the p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 with prevai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sistent with preva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norm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norm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gruent with pers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sistent with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 learned u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ing new knowledg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ing knowledge and skill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Im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Defini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gh-Reliability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Os operate in a context where failures are simply too significant to be tol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resilient, refusing to be discouraged by errors and mist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eek an ideal of perfection but never expect to achieve it…They deliver reliability but never take it for g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ve by the book but refuse to die by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xamples of HRO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 traffic control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ic power g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 Navy aircraft carri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ink-pair-shar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tart by asking some tough question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#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North Rockland a high-reliability organiz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specific and share examples to support your posi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ink-pair-shar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#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looked at the instructional implications of SmartBoards throughout the past year. As a District (or at the building level), did this constitute first- or second- order change? Why and how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eadership Responsibiliti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REL research has identified 21 characteristics of leadership that impact high-reliability organiz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21 were associated with first-order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/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s and Belie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of 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urriculum, Instruction, Assessment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 in 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t 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st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45720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430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ership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able discuss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ntify the 7 characteristics your group agrees are the most important for second-order change, and come to agreement on their defini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5:18Z</dcterms:created>
  <dc:creator>North Rockland Schools</dc:creator>
  <dc:description/>
  <dc:language>en-US</dc:language>
  <cp:lastModifiedBy>North Rockland High School</cp:lastModifiedBy>
  <dcterms:modified xsi:type="dcterms:W3CDTF">2010-07-06T17:36:21Z</dcterms:modified>
  <cp:revision>4</cp:revision>
  <dc:subject/>
  <dc:title>McREL Leadership Initiative</dc:title>
</cp:coreProperties>
</file>